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740-C05E-4B61-A20C-3170F087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228-CD5A-463E-84C3-C358AEB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75C-8367-4ABB-8F83-064CC7D6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D09-B1FE-42D5-987D-F55EDCD4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04E-4040-403F-8C28-84A3B43B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76A-64A1-4C3E-B216-BE866BD2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030-F0EA-4CD1-B973-8D933F9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9B3-FA64-4E97-9FC5-C9EE0A6C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2E2-B04E-4301-9442-4AA8F29F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421-C0A6-4F7E-8246-E31FC51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557-83E2-4734-83AB-13B3C0A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ABF-EF9E-4C73-8BC0-86E068C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25618-DB69-4085-9539-F9F981B9A13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ABCEA-A6A3-4EAB-B304-36D42B544C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narrative essa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old from a particular point of 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and supports a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filled with precise deta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vivid description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conflict and sequence as does an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y use dialog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rrative Wr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My Family Road Trip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1:  Int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the subject? 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’s your take (thesis statement)? 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exactly are you going to tell us? 1-2 sent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2, 3, and 4: Bod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, situation, or story (2-3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details (3-4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ve paragraph essa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agraph 5: Conclusion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tate the thesis statement (1-2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ap up your story (2-3 sentenc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DUE DATE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ursday, April 30</a:t>
            </a:r>
            <a:r>
              <a:rPr b="1" lang="en-US" sz="6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!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49:55Z</dcterms:created>
  <dc:creator>Shannan  Bowerman</dc:creator>
  <dc:description/>
  <dc:language>en-US</dc:language>
  <cp:lastModifiedBy>Shannan  Bowerman</cp:lastModifiedBy>
  <dcterms:modified xsi:type="dcterms:W3CDTF">2009-04-20T15:45:48Z</dcterms:modified>
  <cp:revision>3</cp:revision>
  <dc:subject/>
  <dc:title>Narrative Writing</dc:title>
</cp:coreProperties>
</file>